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1.wmf" ContentType="image/x-wmf"/>
  <Override PartName="/ppt/media/image2.jpeg" ContentType="image/jpeg"/>
  <Override PartName="/ppt/media/chimes.wav" ContentType="audio/x-wav"/>
  <Override PartName="/ppt/media/image6.jpeg" ContentType="image/jpeg"/>
  <Override PartName="/ppt/media/image7.wmf" ContentType="image/x-wmf"/>
  <Override PartName="/ppt/media/image8.png" ContentType="image/png"/>
  <Override PartName="/ppt/media/MSj00748430000%5B1%5D.wav" ContentType="audio/x-wav"/>
  <Override PartName="/ppt/media/image3.jpeg" ContentType="image/jpe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361-4716-4ABA-8B7A-F53E1819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B021-8440-45B0-A087-E8C28059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C4B-3B28-441A-8BE6-DF51D6D3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D068-6BAA-4EDF-A0EF-BFA0B87F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9D6C-9EB5-4719-9015-828A6060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4DF8-ECEC-4B00-9835-CF09A917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30B4-B175-4014-ACD1-2233BDA8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2A73-F353-4495-A68E-4DCBD652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A7DD-50A7-4247-8435-39F1C1E1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BDEC-9551-4F73-83D0-2C1C886D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FD7A-978C-4919-9AAA-49238396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9A4-2EAB-4658-B5A7-04B8DB36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C7A8-48F7-4F52-BA30-F3F4DFD2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71FE-EEFC-4223-98B5-4894C6DE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FB7E-22F5-4F70-AB9C-70F8C5E8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BE3B-52D0-4669-A1DE-91C5CC53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1F81-E32D-4A9C-8A09-A47A0135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A191-6B9F-4552-85CA-4109556A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826F-E885-4A1D-9BEB-646F6349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89D-0568-4C1D-B39B-2EC25D1B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6E96-C94D-4DF0-9389-E549FF3B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3A3B-89EB-48A5-A746-C6B50E2C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92AE-2A2C-4C42-B8A9-090E731B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045-719C-40D4-B76A-65C0C357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A5FF-B540-4C97-B36E-18A768BA3CA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621E-B6E3-4CAF-BA1F-D057B5C98ED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MSj00748430000%5B1%5D.wav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125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Making Words 5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 spd="slow" advTm="10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516720" y="3284640"/>
            <a:ext cx="1584360" cy="792000"/>
          </a:xfrm>
          <a:prstGeom prst="wedgeEllipseCallout">
            <a:avLst>
              <a:gd name="adj1" fmla="val 27856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2124000" cy="1415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1900080" cy="1355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500"/>
                            </p:stCondLst>
                            <p:childTnLst>
                              <p:par>
                                <p:cTn id="26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7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1995480" cy="2538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9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9500"/>
                            </p:stCondLst>
                            <p:childTnLst>
                              <p:par>
                                <p:cTn id="40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0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1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4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2421000"/>
            <a:ext cx="2549520" cy="1700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0"/>
                            </p:stCondLst>
                            <p:childTnLst>
                              <p:par>
                                <p:cTn id="528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9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9500"/>
                            </p:stCondLst>
                            <p:childTnLst>
                              <p:par>
                                <p:cTn id="54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5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7500"/>
                            </p:stCondLst>
                            <p:childTnLst>
                              <p:par>
                                <p:cTn id="55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55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516720" y="3284640"/>
            <a:ext cx="1584360" cy="792000"/>
          </a:xfrm>
          <a:prstGeom prst="wedgeEllipseCallout">
            <a:avLst>
              <a:gd name="adj1" fmla="val 27856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4000" y="2706840"/>
            <a:ext cx="2303280" cy="1717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6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6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9000"/>
                            </p:stCondLst>
                            <p:childTnLst>
                              <p:par>
                                <p:cTn id="6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9500"/>
                            </p:stCondLst>
                            <p:childTnLst>
                              <p:par>
                                <p:cTn id="68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8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686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8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69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9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7500"/>
                            </p:stCondLst>
                            <p:childTnLst>
                              <p:par>
                                <p:cTn id="69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69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84360" y="2349360"/>
            <a:ext cx="1692000" cy="1729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0"/>
                            </p:stCondLst>
                            <p:childTnLst>
                              <p:par>
                                <p:cTn id="804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9000"/>
                            </p:stCondLst>
                            <p:childTnLst>
                              <p:par>
                                <p:cTn id="8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9500"/>
                            </p:stCondLst>
                            <p:childTnLst>
                              <p:par>
                                <p:cTn id="82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1500"/>
                            </p:stCondLst>
                            <p:childTnLst>
                              <p:par>
                                <p:cTn id="82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27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3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3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3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b800"/>
                </a:solidFill>
                <a:latin typeface="SassoonPrimaryInfant"/>
              </a:rPr>
              <a:t>a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9966ff"/>
                </a:solidFill>
                <a:latin typeface="SassoonPrimaryInfant"/>
              </a:rPr>
              <a:t>i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b200"/>
                </a:solidFill>
                <a:latin typeface="SassoonPrimaryInfant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ff0000"/>
                </a:solidFill>
                <a:latin typeface="SassoonPrimaryInfant"/>
              </a:rPr>
              <a:t>o</a:t>
            </a:r>
            <a:r>
              <a:rPr b="0" lang="en-GB" sz="6000" spc="-1" strike="noStrike">
                <a:solidFill>
                  <a:srgbClr val="000000"/>
                </a:solidFill>
                <a:latin typeface="SassoonPrimaryInfant"/>
              </a:rPr>
              <a:t>  </a:t>
            </a:r>
            <a:r>
              <a:rPr b="0" lang="en-GB" sz="6000" spc="-1" strike="noStrike">
                <a:solidFill>
                  <a:srgbClr val="0000ff"/>
                </a:solidFill>
                <a:latin typeface="SassoonPrimaryInfant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2195640" y="1557360"/>
            <a:ext cx="576000" cy="576360"/>
          </a:xfrm>
          <a:prstGeom prst="star5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5280" y="2924280"/>
            <a:ext cx="1440000" cy="165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87640" y="1557360"/>
            <a:ext cx="576360" cy="576360"/>
          </a:xfrm>
          <a:prstGeom prst="star5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80000" y="1557360"/>
            <a:ext cx="576000" cy="576360"/>
          </a:xfrm>
          <a:prstGeom prst="star5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1557360"/>
            <a:ext cx="57636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35640" y="1557360"/>
            <a:ext cx="576360" cy="57636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092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14172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SassoonPrimaryInfant"/>
              </a:rPr>
              <a:t>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804000" y="4365720"/>
            <a:ext cx="1886040" cy="1915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372360" y="3284640"/>
            <a:ext cx="1584360" cy="792000"/>
          </a:xfrm>
          <a:prstGeom prst="wedgeEllipseCallout">
            <a:avLst>
              <a:gd name="adj1" fmla="val 36972"/>
              <a:gd name="adj2" fmla="val 9529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assoonPrimaryInfant"/>
              </a:rPr>
              <a:t>Which will I cho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611280" y="2205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0"/>
                            </p:stCondLst>
                            <p:childTnLst>
                              <p:par>
                                <p:cTn id="942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9000"/>
                            </p:stCondLst>
                            <p:childTnLst>
                              <p:par>
                                <p:cTn id="9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Sj0074843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9500"/>
                            </p:stCondLst>
                            <p:childTnLst>
                              <p:par>
                                <p:cTn id="959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6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96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6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3500"/>
                            </p:stCondLst>
                            <p:childTnLst>
                              <p:par>
                                <p:cTn id="96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6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6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6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7500"/>
                            </p:stCondLst>
                            <p:childTnLst>
                              <p:par>
                                <p:cTn id="971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97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we d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’m sure you have managed brilliantl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ll done xxx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0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6:09:57Z</dcterms:created>
  <dc:creator>Franklin</dc:creator>
  <dc:description/>
  <dc:language>en-US</dc:language>
  <cp:lastModifiedBy>Cynthia</cp:lastModifiedBy>
  <dcterms:modified xsi:type="dcterms:W3CDTF">2010-11-13T22:27:30Z</dcterms:modified>
  <cp:revision>9</cp:revision>
  <dc:subject/>
  <dc:title>Making Words</dc:title>
</cp:coreProperties>
</file>